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2991-7421-4AFF-99F2-5D70DC33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D4CC-7955-432C-A4D2-EFD64D9F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0DCB-8D24-457A-B81A-8851FD6E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6ABA-AF2D-423D-9B6D-8B7E6EA9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275C-87A6-4277-96F0-975B2144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FF08-1E0B-4EBD-AD5F-2B760A6F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D190-E312-46BD-804A-BD1FE962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6952-0EE4-49EC-810C-926F32E4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693-FA3C-4938-BFD4-CCE5AE7E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E2A1-509B-498B-B01A-AD005DAC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E34D-77D9-41E1-9F0F-4B52D850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5CD-AB11-4123-A4C2-6B3A08DC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1C3422-BD0C-4039-BF7E-5839841A9FA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"/>
            <a:ext cx="8229240" cy="12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Q Emissions Data Considerations and Needs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reg Frost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AA, University of Colo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720" y="1334880"/>
            <a:ext cx="8908560" cy="498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key kinds of AQ data on chemical species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miss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mbi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miss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How much is put in to the atmosp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mbient leve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How much of that species is in the atmosp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h are measured and mode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ience/Resear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Data is critical for understanding atmosp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sured/modeled emissions:  what goes in atmosphere, changes over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sured/modeled ambient levels:  state of atmosphere, changes over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 driving variables (boundary and initial condi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 evaluation (comparisons to observa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icy/Regulation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critical for policy and regulatory deci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the current state of the atmosp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ntifying impacts of changing emis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ission inventories are fundamentally regulatory and policy instru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issions are the lever we can cont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ocus on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emissions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in my (random) though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"/>
            <a:ext cx="82292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issions Consid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8320" y="610200"/>
            <a:ext cx="8846640" cy="58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ach of these is species dependent, &amp; differ for AQ and climate data s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mary: Emitted from point or distributed sources, at surface or elev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ary: Produced in atmosphere through chemical re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thropogenic, Biogenic, or Mix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tors/processes: e.g. mobile, industry, energy production, agriculture, fore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at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obal, regional, lo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int &amp; gridded vs area-wide (county, state, nation, world reg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mp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t (hourly –&gt; multi-decad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velopment 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tom-up invento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p-down estim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onal/national/international eff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ientific re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"/>
            <a:ext cx="82292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issions Issues and Needs (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880" y="610200"/>
            <a:ext cx="8561880" cy="58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xic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s of da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 and speciation of pollut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onal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tor and process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at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mp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ltiple val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 develop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 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 pollutant/sector/region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ion and consistency between data s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l changes over time vs methodology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ces between different provi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Q and climate follow different development paths…hinders understanding of climate-AQ inter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"/>
            <a:ext cx="82292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issions Issues and Needs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0880" y="610200"/>
            <a:ext cx="8561880" cy="58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entory development literature difficult to 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entory development &amp; analysis often not in peer-reviewed litera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essi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ces between regions, provi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rge complex data sets, specific form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blic vs proprietary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 needs and cultures of regulatory and scientific commun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-way feedbacks between regulators and scientists diffic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/Assess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risons of inventories to observations/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ability of 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rt assess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imp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  <Words>410</Words>
  <Paragraphs>69</Paragraphs>
  <Company>NOAA ESRL CS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5:48:04Z</dcterms:created>
  <dc:creator>Gregory Frost</dc:creator>
  <dc:description/>
  <dc:language>en-US</dc:language>
  <cp:lastModifiedBy>Gregory Frost</cp:lastModifiedBy>
  <dcterms:modified xsi:type="dcterms:W3CDTF">2011-07-14T13:42:54Z</dcterms:modified>
  <cp:revision>1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</vt:r8>
  </property>
</Properties>
</file>